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DACD-1395-4EA4-B328-CE51BDCD0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6954-040A-4D40-A0C3-1E9BCE78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1147-B476-4035-B56E-33CE39AE2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78FA-0DAC-4941-8EDE-721F47880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3B71-8040-4B6B-9F5B-F15819AA8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487A-1454-4E03-B145-3A0458F6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F023-99F0-4B38-AAAD-9E819645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CE5B-01E4-4B6A-91A6-F5D1D1B3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AA6D-773C-4DF9-A50B-2EC5F153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3DC4-5428-4584-8605-9A0EE69D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21A8-9BB5-4635-97A2-76275B93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BAFD-4760-42E3-8DC7-A9F89286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EE5A-DDF2-4401-B221-80DFEF6D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292E4-63A9-45B7-A118-8F514941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3689-B303-46ED-9BE2-61271321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B530-17EE-4FDA-80E4-7F3E709D6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4EAC-AF3D-4005-B0B1-462C34720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A74E6-72F4-4F68-8D34-AB7DBEBAD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88FB9-0E22-4430-BEA0-204939B4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94F78-D9A4-4F58-9C7B-E1FC740E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05672-E2D4-44DC-9D1D-33162FDB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8AAF3-28F9-44C5-8249-8D38E5D8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C18A-E4A5-46F3-9548-0910CA19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8456C-5DBC-40C7-B406-9B64C41C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023C7-5F34-415C-9C9F-3C8BBAA3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0778C-858E-4284-9D3A-FEE57464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1C65B-5A42-46F8-82B9-6DCDB3F6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02017-6536-4AA6-A199-3D2CA96E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43BC0-DCEC-4E18-A0E1-F6BFFE18C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3721F-1BE3-46B3-94CD-E649E831B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34D4A-CAD0-48FD-8226-3C0259F82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CEA92-37E0-427E-93A0-F3C33381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BCB0A-ECF7-4937-AD11-6155CC35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ECC6-AADC-45B9-AC9A-6A33B448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ED7F5-81D6-435C-8681-8D123001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D206D-6E0C-4D2B-8479-A2017C99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FD7FF-925C-4D19-A9F3-A5B4C6CD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FECD9-4DEB-41B6-A585-24A98BE0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91F65-7352-4D76-9374-0631AD94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F7FE2-A4D9-4084-AC9A-11E3BAB5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78FE1-1969-4427-B4CE-4984D0CD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01D55-B46F-4C32-B11A-97EFB9BCC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E94A4-A363-47E9-80C1-6854B373B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9664E-EA02-42BD-9BD5-71C0431BE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879C-AE30-4BCE-988C-2AAC1897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66193-5FE3-45CD-9E0B-E453BFCB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F988F-0E02-469C-9171-7B06C14A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9D3D4-C9BA-41F7-A819-5BAD6051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113AA-1590-4D2D-AAB6-B178BE1D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ABEFE-6F1F-4D5A-8D77-9FD5EB6B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632D5-8E35-499D-80F6-56034CF1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32330-947A-48F9-8D3E-5EB5372F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541FE-223C-4C35-A1DF-57791EC2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8A43F-26D2-4591-9D67-68CD0346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2484E-F9EB-4934-B1AB-EB387EC38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D237-D741-4E8C-8153-18DAD432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38401-9786-4D04-9512-235B206D8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56FCC-2451-48E5-99ED-0F799CD3F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FD7A5-0E8C-4E02-B8E4-806A1998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66FB4-6101-43A0-8FAA-A916CF01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A62E3-B91E-4436-ABE4-23B2ECBD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03583-2A22-483B-B846-BE81211B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681CB-0D9E-4B2C-A45B-D5185BD0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49521-42EE-4307-A1C5-D4317A8B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18D94-F632-480E-880D-8360B425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25C4D-8C06-4420-8CC8-AB5864A7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AC06-3B5A-499A-BB4D-3549B490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9DE4D-E6A8-4A32-87F0-DACA7E31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F49DD-3C87-4D12-A3A8-8AD7D67B3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EDAA9-BD6A-47B7-870B-3E45E1583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BF9DF-72F6-41D5-A6A6-DCA5824A4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BA71C-E0B4-4320-A17A-ED7F1964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39B6B-9E0B-41C5-B9AC-33606385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EB847-EDD3-4C34-A4BD-19531EA5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60CA8-418B-41D0-9F0C-771368C9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238D2-B2C9-404E-AECC-EEAC66E5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CF071-60F8-46E8-B3EF-3CFDC474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94A8-EA5C-4C47-B5F8-9A8E69B1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52C59-3D8A-4B52-8EBB-04650B0B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2F391-3AA8-4495-9038-719B91AE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E943A-96F4-4069-8195-7B348F69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D8D84-23F9-4089-886E-8F9DB00DD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F9113-FC5B-401B-BFE8-C298C5C0A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19E5-7E08-4E36-BB6C-79E94DEE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0CCA-24DB-48A5-8C4B-050C2974218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D1FF-CD09-41D9-874B-56ED7D47A21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B99C-C372-47B4-B22B-C79F3DF4C7C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7038-6256-4701-9DD7-C0408AED59A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4BA6-9230-491F-BFB7-658F340A37D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A614-22FB-4AE0-A5AE-CADBB556002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6125-4477-4993-80FD-EA12EEA0342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600" y="2361960"/>
            <a:ext cx="74073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572314"/>
                </a:solidFill>
                <a:latin typeface="Gill Sans MT"/>
              </a:rPr>
              <a:t>Que feriez-vous dans les situations suivantes?</a:t>
            </a:r>
            <a:endParaRPr b="0" lang="en-US" sz="6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ituation 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0" name="TextBox 4"/>
          <p:cNvSpPr/>
          <p:nvPr/>
        </p:nvSpPr>
        <p:spPr>
          <a:xfrm>
            <a:off x="1676520" y="1523880"/>
            <a:ext cx="6019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ill Sans MT"/>
              </a:rPr>
              <a:t>Pour impressionner Stéphanie,  sa nouvelle copine, Raphael l’a invitée dans un grand restaurant.  Au moment de payer, Raphael s’apercoit (realizes) qu’il a perdu son portefeuille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ill Sans MT"/>
              </a:rPr>
              <a:t>Si j’etais Raphael…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ituation 2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TextBox 2"/>
          <p:cNvSpPr/>
          <p:nvPr/>
        </p:nvSpPr>
        <p:spPr>
          <a:xfrm>
            <a:off x="1447920" y="1905120"/>
            <a:ext cx="7086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Gill Sans MT"/>
              </a:rPr>
              <a:t>Depuis plusieurs semaines,  Caroline reçoit des lettres d’une admirateur inconnu.  Elle veut savoir qui est ce mystérieux correspondant…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Gill Sans MT"/>
              </a:rPr>
              <a:t>Si j’etais Caroline…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ituation 3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TextBox 2"/>
          <p:cNvSpPr/>
          <p:nvPr/>
        </p:nvSpPr>
        <p:spPr>
          <a:xfrm>
            <a:off x="1523880" y="1523880"/>
            <a:ext cx="6782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ill Sans MT"/>
              </a:rPr>
              <a:t>Jérôme a emprunte la voiture de Cécile. Au moment de rendre la voiture a son amie, il remarque une éraflure (scratch) fraiche. Il n’est pas sur que cette éraflure etait la quand il a emprunte la voitur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ill Sans MT"/>
              </a:rPr>
              <a:t>Si j’etais Jérôme…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ituation 4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TextBox 2"/>
          <p:cNvSpPr/>
          <p:nvPr/>
        </p:nvSpPr>
        <p:spPr>
          <a:xfrm>
            <a:off x="1523880" y="1523880"/>
            <a:ext cx="6629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ill Sans MT"/>
              </a:rPr>
              <a:t>Jean-Claude a passe la soirée dans une petite salle de la bibliothèque municipale.  Il est maintenant onze heures.  Au moment de sortir, Jean-Claude s’apercoit qu’il est seul et que toutes les portes sont fermées a clé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ill Sans MT"/>
              </a:rPr>
              <a:t>Si j’etais Jean-Claude…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ituation 5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TextBox 2"/>
          <p:cNvSpPr/>
          <p:nvPr/>
        </p:nvSpPr>
        <p:spPr>
          <a:xfrm>
            <a:off x="1523880" y="1523880"/>
            <a:ext cx="66294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Gill Sans MT"/>
              </a:rPr>
              <a:t>Madame Lescot a invite ses amis a diner.  Au moment de préparer le repas, elle s’apercoit que sa cuisinière (stove) ne marche pas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Gill Sans MT"/>
              </a:rPr>
              <a:t>Si j’etais Madame Lescot…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ituation 6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TextBox 2"/>
          <p:cNvSpPr/>
          <p:nvPr/>
        </p:nvSpPr>
        <p:spPr>
          <a:xfrm>
            <a:off x="1523880" y="1371600"/>
            <a:ext cx="6629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ill Sans MT"/>
              </a:rPr>
              <a:t>Monsieur Rimbaud voyage souvent en avion. Un jour, il prend par erreur une valise qui n’est pas a lui.  Chez lui, il ouvre la valise et découvre un million de dollars… et l’adresse d’une bande terroristes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ill Sans MT"/>
              </a:rPr>
              <a:t>Si j’etais Monsieur Rimbaud…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9:31:34Z</dcterms:created>
  <dc:creator>Celine Mazoyer</dc:creator>
  <dc:description/>
  <dc:language>en-US</dc:language>
  <cp:lastModifiedBy>Celine Mazoyer</cp:lastModifiedBy>
  <dcterms:modified xsi:type="dcterms:W3CDTF">2010-02-28T21:10:32Z</dcterms:modified>
  <cp:revision>10</cp:revision>
  <dc:subject/>
  <dc:title>Que feriez-vous?</dc:title>
</cp:coreProperties>
</file>