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4C3-4B56-4B0F-AA20-E8CDA61A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978C-0685-4098-99FB-B7F594A5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F4D-C316-4429-A4DE-5C562936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F62-01AC-4EA6-8C60-4FA8EC88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05B0-D4FB-44A2-8275-04D12776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D1C4-ECC0-4DF8-B694-B11C13E5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D575-4A8A-472E-8E0B-94D0DC17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122C-4940-4D0E-BE63-1C2F8EBE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B92A-0D78-40AD-A461-4DEAA7C4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B306-B403-4292-B526-12724691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4E65-0327-4875-A29F-E88717B5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E907-5625-4E5C-BD36-876E1685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7039-2676-409A-B4E7-21C841F1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D368-A701-4867-87B4-7232DFCA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A250-A7DE-46FC-BD20-3328F4F5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E5D3-89ED-4351-9167-D99C870A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2AF5-3CCE-482A-8602-61404B2D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FE265-009C-402A-A213-EBC860B2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66456-2A0A-4E70-AD7C-97728A59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EEF58-521C-408F-AE9A-7F3CBBF6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6D79B-0754-43A1-9ACC-3887D662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90EBF-D67A-4F8F-B89E-45CDB51D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44E7-4DAE-452D-9B7D-91E43FF7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E12D6-302B-4126-827F-1046C376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4C4E3-5415-4427-9F6D-9FC2E08C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BF60F-2FA9-47C0-8F15-F8348AB5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6DD53-994A-4C58-83C2-73CE8C2F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60BE8-0918-49F2-8638-5BC681EA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E243A-A99C-4527-A57E-68C40E87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6E9C8-250B-44DC-9AF6-48C48CEA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89DDD-2D62-41FA-961E-3D8D5C89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3EE47-D525-4F4E-B722-94F6976E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CCB0E-C144-45A9-B266-776CE706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633C-6577-44AF-A286-9B48EEB6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16DD0-5B0A-4C5B-9DD8-73E36DC6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882CA-61A3-46E5-A788-0ED86BF7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96010-4A18-4E04-BDEE-E5FE887D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15EC7-DC24-4ECE-9F05-43E395E3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3CF19-8CFC-4319-B0E3-C805AF85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6E894-AAFC-48C5-9E58-3AFEE594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04567-45E5-4141-A040-9EAF71E6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F8296-4A9D-4982-AAD0-F182CF9D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EA56A-C69A-463F-A787-2EEB800B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1AA86-80F6-4E4E-B99B-827614EC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9B1-27CB-42E8-8AE7-E49B7F57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8DC1F-8196-474E-AF75-7C6FC465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8DC2A-FC95-421E-B96F-B1773784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4732F-66C6-4637-8AD2-28E10062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2AB6C-6705-4A2B-A0F6-D0509136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F5F54-9085-40E9-BB4C-2813E560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58D15-EFB1-4041-A06B-47D86C16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BD002-E8BF-4197-B390-A8BDB455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7B335-5920-4E04-B475-AEDDBDFF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A3799-BF3B-40B3-9DC8-5D9B83B1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D93EE-71AA-4D39-BAC7-B09E8DE8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F99C-50C7-4204-8E52-A9CD1399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4DEE3-8F3C-4D81-9383-B8CD035C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5FF5E-342C-4BAF-B1E5-F6A3754D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82548-14E8-44C0-BB89-6C33454A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E9101-96E9-4139-9337-DC2077D8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FD2A2-75A6-4C8C-A201-F8D64F2D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C5E31-CAEA-420C-BB5E-E4AF864C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620D7-F3BB-4B4D-8A12-FAD37323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6A337-C704-48B1-BB28-8CE517DA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4918A-DE73-43D8-B2D1-3F780CB5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CA8A9-ACF3-4F04-9AA1-64427FCD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CD75-08CB-4FBE-9417-8DC53470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866AB-1CF8-4B68-8458-A5CA861B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A34E2-3D58-4A33-8229-8B5C5728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78291-CDAB-47CC-A756-89106F5A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206E1-48DD-4AA4-AD52-CED34F21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E3BBF-632D-439E-A7D1-A2222559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1CD9F-974F-4FBA-BE08-AB3918E4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F030C-CDB8-4DD3-8D5E-FA95F82A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E91D1-CF67-49D7-AD4F-A78A9819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CA708-FC00-4085-BF25-CF7DB3C0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4F899-EE5F-4C11-9615-33C55A64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4BC-E248-4DA1-B023-2DC2BF8C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70D48-ACEC-492C-9EB1-EF7AF7BF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3AEEA-B2B9-46FB-9FF0-43A0A416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611D5-6555-4954-B759-D8A4B708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E7743-E116-4C6A-A9B9-E02BF2CA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8500B-3207-4884-B480-4CF97A89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5082-43C9-4783-9EB2-D6025B81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A9AA-B916-497F-A863-5FA3F1D12D7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1363-4A17-4CC3-BCD2-0FCF4C8E885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E078-A525-4042-BC18-DD8A24C0FAB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46C4-F0EA-4FFF-802F-6854E383F7B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C71C-3E99-4AFF-BE5C-590AA3CEE17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BF90-D2C7-40AD-A04B-A322092FB1E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A045-3D21-4DC7-94D6-20EAFDE38AF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23619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572314"/>
                </a:solidFill>
                <a:latin typeface="Gill Sans MT"/>
              </a:rPr>
              <a:t>Que feriez-vous dans les situations suivantes?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1676520" y="1523880"/>
            <a:ext cx="6019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Pour impressionner Stéphanie,  sa nouvelle copine, Raphael l’a invitée dans un grand restaurant.  Au moment de payer, Raphael s’apercoit (realizes) qu’il a perdu son portefeuill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Si j’etais Raphael…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TextBox 2"/>
          <p:cNvSpPr/>
          <p:nvPr/>
        </p:nvSpPr>
        <p:spPr>
          <a:xfrm>
            <a:off x="1447920" y="1905120"/>
            <a:ext cx="7086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Gill Sans MT"/>
              </a:rPr>
              <a:t>Depuis plusieurs semaines,  Caroline reçoit des lettres d’une admirateur inconnu.  Elle veut savoir qui est ce mystérieux correspondant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Gill Sans MT"/>
              </a:rPr>
              <a:t>Si j’etais Caroline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3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TextBox 2"/>
          <p:cNvSpPr/>
          <p:nvPr/>
        </p:nvSpPr>
        <p:spPr>
          <a:xfrm>
            <a:off x="1523880" y="1523880"/>
            <a:ext cx="6782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Jérôme a emprunte la voiture de Cécile. Au moment de rendre la voiture a son amie, il remarque une éraflure (scratch) fraiche. Il n’est pas sur que cette éraflure etait la quand il a emprunte la voitur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Si j’etais Jérôme…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TextBox 2"/>
          <p:cNvSpPr/>
          <p:nvPr/>
        </p:nvSpPr>
        <p:spPr>
          <a:xfrm>
            <a:off x="1523880" y="1523880"/>
            <a:ext cx="6629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Jean-Claude a passe la soirée dans une petite salle de la bibliothèque municipale.  Il est maintenant onze heures.  Au moment de sortir, Jean-Claude s’apercoit qu’il est seul et que toutes les portes sont fermées a clé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Si j’etais Jean-Claude…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5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TextBox 2"/>
          <p:cNvSpPr/>
          <p:nvPr/>
        </p:nvSpPr>
        <p:spPr>
          <a:xfrm>
            <a:off x="1523880" y="1523880"/>
            <a:ext cx="6629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Gill Sans MT"/>
              </a:rPr>
              <a:t>Madame Lescot a invite ses amis a diner.  Au moment de préparer le repas, elle s’apercoit que sa cuisinière (stove) ne marche pas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Gill Sans MT"/>
              </a:rPr>
              <a:t>Si j’etais Madame Lescot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1523880" y="1371600"/>
            <a:ext cx="6629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Monsieur Rimbaud voyage souvent en avion. Un jour, il prend par erreur une valise qui n’est pas a lui.  Chez lui, il ouvre la valise et découvre un million de dollars… et l’adresse d’une bande terroriste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Si j’etais Monsieur Rimbaud…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9:31:34Z</dcterms:created>
  <dc:creator>Celine Mazoyer</dc:creator>
  <dc:description/>
  <dc:language>en-US</dc:language>
  <cp:lastModifiedBy>Celine Mazoyer</cp:lastModifiedBy>
  <dcterms:modified xsi:type="dcterms:W3CDTF">2010-02-28T21:10:32Z</dcterms:modified>
  <cp:revision>10</cp:revision>
  <dc:subject/>
  <dc:title>Que feriez-vous?</dc:title>
</cp:coreProperties>
</file>