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2C2-3C94-43E7-8BB8-1D5B95C4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D881-73CF-4174-97AF-B7D2C64F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8C2-860B-4B14-9D50-DBED0349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90C-D4DA-474D-B4F4-DC12CE97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4CE5-8666-4C70-81B2-8636CCFD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8142-11E7-477C-A0A1-456F1948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E902-C2DB-48F9-BA26-512CD47B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1D74-98FB-4DC9-87FD-AFFDF296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FABA-78B1-4680-A4E4-19B82FD8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A043-CE59-4181-9000-E0D5EF90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7208-3433-41EF-8194-B6009C1B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95C-952B-466C-B3DB-56359BB2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A75B-5CD1-4333-BEC2-0CEE9A48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9671-455D-4649-B49C-32BB14AD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BAC9-AA77-4F84-BA42-BFA0ED50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BE79-A656-4841-B350-9CDD8211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773B-9C9E-4E20-85CD-B7ECD1F8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2B325-FAFA-4D0D-A2DD-7EB0EF32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4F15-5BA8-4F9D-B837-9E184F17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3E1AE-604D-4D6B-A594-34D0C61D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779D-F16B-4EB3-A689-E3F11392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55FF8-86BE-48C0-8722-00B73D35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A30-C4D9-4DA6-8B92-5AEC2E1D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A9D87-BBC7-4811-901E-EA054E7C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BC5D0-6C8D-46B4-93CD-C95C3E9E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960B7-A27C-44EF-B428-51F605AB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C089-57C1-4CDD-9CCB-908FCBEC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5E19-6599-46C2-9688-26424927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8DE8D-D756-4BC6-BBD2-B71B4A2E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DBA4-E886-4052-8607-461CF739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2BC26-7A09-4555-B75D-023891BF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89EDC-2488-4577-B061-B79592BB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501EF-DB28-4EB4-B955-870E8A1C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23E-28EB-430E-88F7-70C55AB8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A46AD-3AC3-4709-A2A5-AD2E48A6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F7ABF-F9EC-43F6-B584-7FAEA108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177B1-4744-4328-9AF2-8B67C9D7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388E4-45BB-4D85-B20F-07A5EB75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8D4EB-C60E-43D7-BAE1-F87D8B2F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DF048-6264-4287-AEF3-AB5E8BEE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09E07-2EF3-4583-AD44-DC764BA6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CB351-2482-4A87-B8FB-6D6A9066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79651-1D0A-4714-BB7A-C6FD541D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4E396-8467-403A-911D-1DCBD44B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C3B-203A-4B9D-BA1D-32BE772B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2C0B9-6082-4974-9247-6CC58654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37D2A-C3DF-444C-9CD9-18D5BF9D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2D13A-5EF9-467D-9B2B-7A986D5B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CF18F-57F0-41EF-80D6-76AA9C1C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F755B-BD67-4B14-AFAA-5078A569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94249-4484-4C80-8F17-89C0C701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8A671-358B-4875-B247-AB26C4B2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B1CCC-DC2D-4166-AD79-5AA79325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EF6CF-3DAB-4AD8-A991-CE03B381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41D47-4430-45C4-B2F3-D90868B9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302-4A44-453D-9940-AD0333B9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62CDD-4C1D-481B-884C-9E4477C8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28794-9503-400A-BEFC-BA0E0845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DB9E6-1A8B-49D1-9C03-D137BC1F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10F0C-06CB-48E5-889F-36C96C76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F75A6-3B1F-46F5-A7EE-E050B01F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0E923-3927-4486-B616-7BF21082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C9FCE-F3A8-41FF-9C22-A896A666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2D931-FBD1-47C6-B275-BA6C85B3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8E58F-47B8-4BAB-85F9-90524A22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BBB16-500C-448C-B4BB-5EEAC438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679-1B97-4322-AD20-4170566D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2120C-44CA-4671-91E5-8F25521D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52DC2-1F00-425F-9D8B-94F306AF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922B2-79A1-4424-AE03-74EA7C16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EBFD9-9BC1-487E-8809-2C79D485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C7C26-5FED-4C2E-A6F4-0DE24CD6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3E96A-A97C-4C5C-819A-690A4308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97208-AAD2-49EE-8C5F-1FF2E87F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1F71C-8718-4722-88CD-91EF0355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14519-2D53-4EF9-9A1A-4A67DEEF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AEC10-2611-49F9-AEC3-6BACED1D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5BE-CCDD-49E5-9CAC-D8DC7806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96626-79B4-4A58-B4B1-C2A95A0F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4AA59-11EC-4891-9FE7-EC716ADA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AC98F-0057-46C8-A8A9-122072DF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E7B7B-A2C9-40C0-8755-E099C2CF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3FEE6-E884-421E-AADB-31945456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E8B-A298-440D-90D2-9390A7DD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6EE0-E2E6-4DB7-9C7F-FF6F0DA141D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B1D7-EA7F-4A54-A02A-A5B48B6E0D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5200-4447-481E-B0DA-D23E6EEF8A2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B6A3-E2FC-4DC3-A174-2D1C2A6FEFA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A78C-ADD6-4983-8605-30BE0AC55A7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721E-682B-4F8E-9386-6EFCA4DBDAE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1F2F-5324-4E73-9E27-88122B32D7A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572314"/>
                </a:solidFill>
                <a:latin typeface="Gill Sans MT"/>
              </a:rPr>
              <a:t>Que feriez-vous dans les situations suivantes?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676520" y="1523880"/>
            <a:ext cx="6019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Pour impressionner Stéphanie,  sa nouvelle copine, Raphael l’a invitée dans un grand restaurant.  Au moment de payer, Raphael s’apercoit (realizes) qu’il a perdu son portefeuil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Raphael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1447920" y="1905120"/>
            <a:ext cx="7086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Depuis plusieurs semaines,  Caroline reçoit des lettres d’une admirateur inconnu.  Elle veut savoir qui est ce mystérieux correspondant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Si j’etais Caroline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1523880" y="1523880"/>
            <a:ext cx="678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Jérôme a emprunte la voiture de Cécile. Au moment de rendre la voiture a son amie, il remarque une éraflure (scratch) fraiche. Il n’est pas sur que cette éraflure etait la quand il a emprunte la voitur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Jérôme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1523880" y="152388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Jean-Claude a passe la soirée dans une petite salle de la bibliothèque municipale.  Il est maintenant onze heures.  Au moment de sortir, Jean-Claude s’apercoit qu’il est seul et que toutes les portes sont fermées a clé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Jean-Claude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TextBox 2"/>
          <p:cNvSpPr/>
          <p:nvPr/>
        </p:nvSpPr>
        <p:spPr>
          <a:xfrm>
            <a:off x="1523880" y="1523880"/>
            <a:ext cx="6629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Madame Lescot a invite ses amis a diner.  Au moment de préparer le repas, elle s’apercoit que sa cuisinière (stove) ne marche pas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Gill Sans MT"/>
              </a:rPr>
              <a:t>Si j’etais Madame Lescot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ituation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523880" y="137160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Monsieur Rimbaud voyage souvent en avion. Un jour, il prend par erreur une valise qui n’est pas a lui.  Chez lui, il ouvre la valise et découvre un million de dollars… et l’adresse d’une bande terrorist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Si j’etais Monsieur Rimbaud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9:31:34Z</dcterms:created>
  <dc:creator>Celine Mazoyer</dc:creator>
  <dc:description/>
  <dc:language>en-US</dc:language>
  <cp:lastModifiedBy>Celine Mazoyer</cp:lastModifiedBy>
  <dcterms:modified xsi:type="dcterms:W3CDTF">2010-02-28T21:10:32Z</dcterms:modified>
  <cp:revision>10</cp:revision>
  <dc:subject/>
  <dc:title>Que feriez-vous?</dc:title>
</cp:coreProperties>
</file>