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F0D18-DACB-49EA-9DFB-879AE10D4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76ED0-6CF8-4CC9-BD7C-E0B00F65E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7B7AD-E330-4EC3-8E44-D8B291FEE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5E965-7358-42D2-89CB-30A6903D0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3BF5E-EE2F-442D-83F2-AD780BDC5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AF824-A7E1-4FF2-B3BC-FBCB310D4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07F79-D2FE-45DF-8E88-AAD8A9C2F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2FD60-6C6E-4E5B-9E43-EFDBCAECA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FE16B-0B65-4A75-BB56-8827F119D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B9375-5B1B-4525-A8C5-5EFB8DF34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12BB2-55C7-477E-92A1-26E034276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DE734-75AD-45B4-AC1F-7FBD64E57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7477B-04D0-4F07-B40A-5E90799BA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8AF48-E0D3-4249-B2D3-2DB36FFC9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2A879-D856-4420-A229-92D38C4C7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9816E-69D0-4F4F-A19D-48A8A654A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13153-85A9-4A7E-8AC4-97FF13A67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832A5E-EC37-44D1-9248-E60E01286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F1D7A6-A0DE-4AC5-A760-5EC0181BB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86F1A9-61B1-42F9-8FE5-F5A33C69D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0F0C49-04CA-408A-8C61-C5149307E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3E569E-F571-47A1-AAB8-CA6261E8C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48CC8-68DB-4D02-8DB2-0367F4AA6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323F3B-C367-45B8-AAD6-0226DC519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2BADCC-74D8-40EA-A0AB-CA8C2D83D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C405E0-0365-48B1-A64F-03D44BD0B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E6B2BB-FD11-48EA-98E5-B1BCDFF82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1A3AD6-A6C2-4153-9FD4-F0BF36E75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1D5C70-D053-4A36-832B-D68E08B46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869770-2CC7-4464-A568-B892A692E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412BB9-731E-45E0-9166-5D18F6D1F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3330BB-92B9-410F-8A78-23C3CDF74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C8539D-6228-4516-9717-938C34F14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0E3A4-A9C3-4EB0-8B7D-DDBA339EE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7F7FC1-5690-42ED-9F50-FE499BCE5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19772D-96E7-4958-9E27-624C888A8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F9D702-9EA5-4955-8800-AA855BE41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BF394D-5BBB-4F13-B1DF-14408F9B5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B8D717-D0E9-436D-951A-A26DFF1D8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422C7F-2F7C-4AF0-B870-4C15AC84F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0E9346-F3AB-4193-82F9-DCB639D9F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F6122E-AA21-4ACE-AB11-9E333B479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B1634B-F586-4545-862D-504375394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6F925E-FEBF-429B-8F0D-502537980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BE441-27E7-4A9E-BC2C-904E26D8C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40FC88-3683-4739-A56D-555E30964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37987D-28B2-4DF2-9FF8-55B84A69B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C0F176-8FED-431E-8ECD-DD3902467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136801-A4B2-4BDF-81C1-236BAAE3A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50BD98-2B39-40C2-9941-256154CE0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89093D-B852-4C7D-9018-40CDE7E61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191A79-9168-4A64-BDD7-D57206B1B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37C327-3476-45EC-A282-AFE35AE6C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375F00-15CF-457C-BFE5-C2BDFEDDD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C5844F-19EA-4AE9-BC87-BBFB3176C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2B61F-6478-4875-9D0A-540EAF34D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A2131C-639C-492D-98C2-46F23533E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8BEE8B-65D2-418C-9013-F210449E7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C9B261-5749-44D1-9FDD-D8E7E47C9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BC5A65-5935-4D38-9F34-400B4A529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8CEA91-85FB-490D-8902-6545ABC55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A3692A-4CCA-4D1F-A3BF-67C1AAC69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D5BD4F-2339-4C2C-9FE2-BAFEA8B83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14EEE5-7817-4B58-9116-F65815F9C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19D6A1-515A-4776-BCAA-A6945830E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8C193E-7E7F-41E8-9AF5-4A8052BAF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6C39F-4676-4333-88AE-C9DACC03B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F2CA1C-AF55-44DD-B013-E844DFE4D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BEE29C-9CBA-48E0-B6DD-38A1CE978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D6EE54-B8FD-487A-A2E5-18D49D898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4E28B0-0A8B-4504-BFCE-DAA830C67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4EBEE2-772E-4BC8-BF18-00F994389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12A5FC-819F-4B3C-B4C5-FB5BA2099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4C645B-50E2-4EA5-9BDC-B36EADC89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B6743B-EEAB-482B-8313-E4E186EB0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66EE0D-1439-4E5C-AF48-78D707B0F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F6916D-11B3-484B-BF4C-EEA8F214B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74992-FD86-4127-8E27-4CCBAD34B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977DD6-8A48-44C8-B77C-3F0D0A5D3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477E07-D008-49E0-A361-A82F41135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B5E420-EA60-4F9A-ADB8-6E500AE4C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C656C2-ACA9-4CDA-9EB1-399BF23C4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466013-B0FD-4001-AADB-CF1A3D151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E4144-FA8D-4309-AD6A-872173263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887" h="1638887">
                <a:moveTo>
                  <a:pt x="1638887" y="819444"/>
                </a:moveTo>
                <a:lnTo>
                  <a:pt x="1638887" y="819444"/>
                </a:lnTo>
                <a:arcTo wR="819444" hR="819444" stAng="0" swAng="5402123"/>
                <a:lnTo>
                  <a:pt x="819444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802DE-A274-4FF4-A427-A98FB872FE34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887" h="1638887">
                <a:moveTo>
                  <a:pt x="1638887" y="819444"/>
                </a:moveTo>
                <a:lnTo>
                  <a:pt x="1638887" y="819444"/>
                </a:lnTo>
                <a:arcTo wR="819444" hR="819444" stAng="0" swAng="5402123"/>
                <a:lnTo>
                  <a:pt x="819444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0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5" name="Oval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Oval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8" name="Ov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D9F8C-B506-440F-AD10-28E38AFBADB0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02" name="Oval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Oval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105" name="Oval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D8622-B682-46CE-BDC2-435A08B5463F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5244F-842A-4872-86CF-49E752466DE4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9" name="Rectangle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1DE08-D958-42F7-9ACB-837713E6AFE6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1B92D-1D7D-484E-8F29-7F94FCCF01E0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Rectangle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Rectangle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275" name="Flowchart: Proces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6" name="Flowchart: Proces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A5D7D-2A31-4FD4-A2CA-A883C29EAED2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371600" y="2361960"/>
            <a:ext cx="7407360" cy="14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572314"/>
                </a:solidFill>
                <a:latin typeface="Gill Sans MT"/>
              </a:rPr>
              <a:t>Que feriez-vous dans les situations suivantes?</a:t>
            </a:r>
            <a:endParaRPr b="0" lang="en-US" sz="60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Situation 1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0" name="TextBox 4"/>
          <p:cNvSpPr/>
          <p:nvPr/>
        </p:nvSpPr>
        <p:spPr>
          <a:xfrm>
            <a:off x="1676520" y="1523880"/>
            <a:ext cx="60195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Gill Sans MT"/>
              </a:rPr>
              <a:t>Pour impressionner Stéphanie,  sa nouvelle copine, Raphael l’a invitée dans un grand restaurant.  Au moment de payer, Raphael s’apercoit (realizes) qu’il a perdu son portefeuille. 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Gill Sans MT"/>
              </a:rPr>
              <a:t>Si j’etais Raphael…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Situation 2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2" name="TextBox 2"/>
          <p:cNvSpPr/>
          <p:nvPr/>
        </p:nvSpPr>
        <p:spPr>
          <a:xfrm>
            <a:off x="1447920" y="1905120"/>
            <a:ext cx="70866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Gill Sans MT"/>
              </a:rPr>
              <a:t>Depuis plusieurs semaines,  Caroline reçoit des lettres d’une admirateur inconnu.  Elle veut savoir qui est ce mystérieux correspondant…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Gill Sans MT"/>
              </a:rPr>
              <a:t>Si j’etais Caroline…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Situation 3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4" name="TextBox 2"/>
          <p:cNvSpPr/>
          <p:nvPr/>
        </p:nvSpPr>
        <p:spPr>
          <a:xfrm>
            <a:off x="1523880" y="1523880"/>
            <a:ext cx="67820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Gill Sans MT"/>
              </a:rPr>
              <a:t>Jérôme a emprunte la voiture de Cécile. Au moment de rendre la voiture a son amie, il remarque une éraflure (scratch) fraiche. Il n’est pas sur que cette éraflure etait la quand il a emprunte la voiture.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Gill Sans MT"/>
              </a:rPr>
              <a:t>Si j’etais Jérôme…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Situation 4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6" name="TextBox 2"/>
          <p:cNvSpPr/>
          <p:nvPr/>
        </p:nvSpPr>
        <p:spPr>
          <a:xfrm>
            <a:off x="1523880" y="1523880"/>
            <a:ext cx="66294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Gill Sans MT"/>
              </a:rPr>
              <a:t>Jean-Claude a passe la soirée dans une petite salle de la bibliothèque municipale.  Il est maintenant onze heures.  Au moment de sortir, Jean-Claude s’apercoit qu’il est seul et que toutes les portes sont fermées a clé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Gill Sans MT"/>
              </a:rPr>
              <a:t>Si j’etais Jean-Claude…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Situation 5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8" name="TextBox 2"/>
          <p:cNvSpPr/>
          <p:nvPr/>
        </p:nvSpPr>
        <p:spPr>
          <a:xfrm>
            <a:off x="1523880" y="1523880"/>
            <a:ext cx="662940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Gill Sans MT"/>
              </a:rPr>
              <a:t>Madame Lescot a invite ses amis a diner.  Au moment de préparer le repas, elle s’apercoit que sa cuisinière (stove) ne marche pas.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Gill Sans MT"/>
              </a:rPr>
              <a:t>Si j’etais Madame Lescot…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Situation 6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0" name="TextBox 2"/>
          <p:cNvSpPr/>
          <p:nvPr/>
        </p:nvSpPr>
        <p:spPr>
          <a:xfrm>
            <a:off x="1523880" y="1371600"/>
            <a:ext cx="66294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Gill Sans MT"/>
              </a:rPr>
              <a:t>Monsieur Rimbaud voyage souvent en avion. Un jour, il prend par erreur une valise qui n’est pas a lui.  Chez lui, il ouvre la valise et découvre un million de dollars… et l’adresse d’une bande terroristes.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Gill Sans MT"/>
              </a:rPr>
              <a:t>Si j’etais Monsieur Rimbaud…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8T19:31:34Z</dcterms:created>
  <dc:creator>Celine Mazoyer</dc:creator>
  <dc:description/>
  <dc:language>en-US</dc:language>
  <cp:lastModifiedBy>Celine Mazoyer</cp:lastModifiedBy>
  <dcterms:modified xsi:type="dcterms:W3CDTF">2010-02-28T21:10:32Z</dcterms:modified>
  <cp:revision>10</cp:revision>
  <dc:subject/>
  <dc:title>Que feriez-vous?</dc:title>
</cp:coreProperties>
</file>